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D48-4AC6-498C-B728-66EAD805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26D-A2CD-4407-BEEB-15514FBF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C37-706D-425E-9F92-57020812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732-55E4-419C-B0C3-67EBA1E9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1127-D152-4808-AE2F-25A6EA0C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5680-5394-4753-B55B-3DA886B4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6682-85A3-42E8-A9F2-5330F53B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7FAB-CC31-4B4B-BB53-76497469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AB73-2811-48C1-B9BB-256F5B2F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C444-3EEB-4E68-9CC7-134B6ED5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A657-8611-47EA-9A75-F968C1AC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A9C-CDE2-49F5-926B-7D94BD6D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30D7-709F-48BB-8786-E42785E6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97F9-F20F-40D3-85DE-EB376772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A8A8-8122-46DE-A7E3-78891873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7D6C-34F6-46A9-A852-8A28133F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E2E-6DD5-4182-9755-4ADB9FF1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C30D-2BC7-4115-8275-CA4E6B4A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CD73-DABB-4543-A4B6-3BF2541A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EDF0-42BA-4034-BA34-C0CB1B69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EC10-C547-43BB-82A9-A695C9DC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78E7-D2B1-4A22-8D1E-DDA099C3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4B2-9470-445A-B9A3-CE23A578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C62B-319A-4935-ABE2-E0C71D72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3E34-1EBE-4A32-8471-CDA6FEE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398D-4492-4F36-86A3-2C5CAD5D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DAC4-2CD4-4EB4-A4B8-F8BFADC4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3B98-FD44-40D9-A6B2-B7795D6B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C95DA-22F6-4E07-B0BB-0F3CB7CD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3FE4-F10C-4678-816E-28CBC86D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75686-8671-4AE5-AB81-ACAF4D70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B056-9D3B-4343-B6B0-46A243F7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644A-8EB3-4804-AEA8-9F85E6D2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BB5-334F-44CF-A809-4FC01369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5ECD8-8325-40DB-8770-E01AEA76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C9165-E1A4-43C4-AE64-282887C9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44A2E-CE37-4796-B065-CE12D9D7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92D5-CF94-4389-8537-6ABE7AC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53E0-B64B-42F7-8CFF-5D51FA2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34472-1093-4B97-93A9-73D38C0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154ED-0DA1-4FBA-B0C6-3AE5CA44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9A6A0-0339-4119-A7E7-6876905F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4E4A-D1E4-4C5C-9C8A-0023C506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74AA1-CD35-4F30-B2D8-0E3B2D89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48E-6B7B-409F-90A6-C580F4C7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919C7-6B23-4A51-A8A3-860333C8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ACDC0-4CCE-49DD-B036-43B93CE0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909BC-8961-4637-AC2B-19824420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96B8-BCF5-407E-B368-D20D8D90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2FFB4-D62D-43DE-9297-493CCAF4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CB3CC-796A-42E7-AC5B-F8D5B4A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0F8C0-6C4C-4F8B-A3DF-BAED549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07FA6-1DCE-472B-8E6A-EB87D17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6FCEC-7EA3-4E32-96BA-E9A38FE5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FD912-2869-4B68-804C-8F306849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327-A477-4093-856A-46B83E5C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2025-58EF-494E-8574-5D007379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1EBE1-EA63-472E-AB20-FD85EDF6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D2C3A-0921-42D5-84DE-44E8E3C5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DB132-DAD3-4971-BD76-B6F1F584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10F48-2AFE-4150-AA8A-02B31968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CFA53-9982-45BF-9074-D56BD353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8303A-E896-41B3-B68E-7466B8E0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9DE38-E3D1-4E9E-B938-C251974A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DA94-64D3-44A2-8BF9-C6CBB0B6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123FE-C26A-4211-9C41-809562B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959-40A5-42A9-9A9B-E1A624E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20DA8-8675-4B05-82FB-84B67839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8D0C3-7E16-4401-BF27-3DA918C2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D6978-E528-4AFA-A5E0-D868E880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2750D-59A9-4301-864E-50C561A5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67F86-7935-42D9-85B1-C04B73D9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C5BBF-0984-466F-A7CC-3010E798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6A733-1A6E-4DFD-9E2F-0CA55209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CD609-A142-40C2-BF41-A1E1F946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13E1C-E178-4B8E-A831-65B2B875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02788-D7F0-4E53-A889-D92CB1BB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12C-F740-4C98-A60C-BAAE0E6A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FF45F-B841-464E-B5F5-84E43E5E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8EC4A-C67C-49F8-AC84-EE4F68D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10A75-0C62-4659-A5C6-DBC66835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2F1DA-9AC5-4E4B-8938-4FF2FFE7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ED877-B8C4-43BD-9385-C304F20B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4C546-372D-4287-A46D-2EE662CA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3A132-3640-4346-8C9B-BFC50407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80942-254A-41C2-8D03-245D06E3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A93F3-E436-4BFE-A3A5-0C96C448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08EA1-AA61-4493-AEDB-ED5FC44E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2BE-6929-42D3-92A0-6FA917C9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FF4C0-0878-430E-9531-DCD8737E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636CC-839D-418D-A9FC-357301C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02439-3A4D-4195-971A-46C7E9BB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0B195-B3C3-41D1-AA8F-FFC24EC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B8379-E19A-4F66-BEC9-4FBF42FC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995B6-9973-4B80-B564-6B7F9BD5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257B-A613-4E93-826D-6EC5ED51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9582F-D85F-434A-965C-64CDB38D73B7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5A8B0-2C60-4547-9355-AA5BA4EC47F1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4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4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03BE7-DB14-4789-BE2F-34C121177DC2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8E20B-601F-43D3-9F62-E88E500FB12F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7E046-9F87-4F96-A7D2-2C21F812E4C7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9BED2-1382-45EF-8164-5E0C803AEE96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1EABC-6D6F-497A-A975-5F85C836E605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0A61A-044E-4475-A2A7-68AF7AD6E470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tle 1"/>
          <p:cNvSpPr/>
          <p:nvPr/>
        </p:nvSpPr>
        <p:spPr>
          <a:xfrm>
            <a:off x="836640" y="1336680"/>
            <a:ext cx="840744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Arial"/>
                <a:ea typeface="Arial"/>
              </a:rPr>
              <a:t>HIGH-TECH AGRI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Arial"/>
                <a:ea typeface="Arial"/>
              </a:rPr>
              <a:t>AND ITS DEVELOPMENT VI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Arial"/>
                <a:ea typeface="Arial"/>
              </a:rPr>
              <a:t>IN VIETN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itle 1"/>
          <p:cNvSpPr/>
          <p:nvPr/>
        </p:nvSpPr>
        <p:spPr>
          <a:xfrm>
            <a:off x="1444680" y="695160"/>
            <a:ext cx="7407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843120" y="450720"/>
          <a:ext cx="9342360" cy="885960"/>
        </p:xfrm>
        <a:graphic>
          <a:graphicData uri="http://schemas.openxmlformats.org/drawingml/2006/table">
            <a:tbl>
              <a:tblPr/>
              <a:tblGrid>
                <a:gridCol w="4671720"/>
                <a:gridCol w="4670640"/>
              </a:tblGrid>
              <a:tr h="88596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TextBox 5"/>
          <p:cNvSpPr/>
          <p:nvPr/>
        </p:nvSpPr>
        <p:spPr>
          <a:xfrm>
            <a:off x="2849400" y="60436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CM CITY, 9 March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1040" y="-19080"/>
            <a:ext cx="16221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52520" y="1239480"/>
            <a:ext cx="43768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2806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6ba"/>
                </a:solidFill>
                <a:latin typeface="Arial"/>
                <a:ea typeface="Arial"/>
              </a:rPr>
              <a:t>Challenges</a:t>
            </a:r>
            <a:br>
              <a:rPr sz="2800"/>
            </a:br>
            <a:r>
              <a:rPr b="1" lang="en-US" sz="2800" spc="-1" strike="noStrike">
                <a:solidFill>
                  <a:srgbClr val="2806b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Line 4"/>
          <p:cNvSpPr/>
          <p:nvPr/>
        </p:nvSpPr>
        <p:spPr>
          <a:xfrm>
            <a:off x="56386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8080" y="1477440"/>
            <a:ext cx="863604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411200" indent="-3394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licies have not yet been put into pract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411200" indent="-3394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anning fails to match with practical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411200" indent="-3394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s’ investment in science and technology has limited quantities and weak resour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411200" indent="-3394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 of high tech creation and development in the agricultural sector have not yet defined. The tasks are focused, however, lacking a breakthrough of high technologies, leading to a not very high value adde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411200" indent="-3394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zation and socialization of investment remain we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7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28680" y="-19080"/>
            <a:ext cx="1621080" cy="1920960"/>
          </a:xfrm>
          <a:prstGeom prst="rect">
            <a:avLst/>
          </a:prstGeom>
          <a:ln w="0">
            <a:noFill/>
          </a:ln>
        </p:spPr>
      </p:pic>
      <p:sp>
        <p:nvSpPr>
          <p:cNvPr id="498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8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501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4"/>
          <p:cNvSpPr/>
          <p:nvPr/>
        </p:nvSpPr>
        <p:spPr>
          <a:xfrm>
            <a:off x="56386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1268280" y="1217520"/>
            <a:ext cx="77328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2806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6ba"/>
                </a:solidFill>
                <a:latin typeface="Arial"/>
                <a:ea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052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communication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052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wareness of high-tech agricultural areas and zones are not yet in accordance with the High-tech Law and Land Law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052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onsistent polici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052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ist in planning and developing high-tech agricultural zones but have limited resour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052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pose an amendment the master plan of high-tech agricultural areas, however, legal framework and resources are not yet well-prepar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08252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9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28680" y="-19080"/>
            <a:ext cx="1621080" cy="1920960"/>
          </a:xfrm>
          <a:prstGeom prst="rect">
            <a:avLst/>
          </a:prstGeom>
          <a:ln w="0">
            <a:noFill/>
          </a:ln>
        </p:spPr>
      </p:pic>
      <p:sp>
        <p:nvSpPr>
          <p:cNvPr id="510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11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513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Line 4"/>
          <p:cNvSpPr/>
          <p:nvPr/>
        </p:nvSpPr>
        <p:spPr>
          <a:xfrm>
            <a:off x="56386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57480" y="1142640"/>
            <a:ext cx="75578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2806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06ba"/>
                </a:solidFill>
                <a:latin typeface="Arial"/>
                <a:ea typeface="Arial"/>
              </a:rPr>
              <a:t>Solutions</a:t>
            </a:r>
            <a:r>
              <a:rPr b="0" lang="en-US" sz="2000" spc="-1" strike="noStrike">
                <a:solidFill>
                  <a:srgbClr val="2806b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policies, institutions to create a legal framework for developing high-tech agriculture, establishing agricultural production areas with high-tech applicatio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mote pub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 capital for the agricultural sect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ry out administrative reform to encourage enterprises investing in scientific and technological research and applica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involve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the Program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uild capacity, improve dynamics of research and transfer institution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nces located in the planning shall proactively balance their local budgets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bilize resources to establish high-tech agricultural zones and area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the sustainable and high efficient operation of such areas and zon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329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329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87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2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28680" y="-19080"/>
            <a:ext cx="1621080" cy="1920960"/>
          </a:xfrm>
          <a:prstGeom prst="rect">
            <a:avLst/>
          </a:prstGeom>
          <a:ln w="0">
            <a:noFill/>
          </a:ln>
        </p:spPr>
      </p:pic>
      <p:sp>
        <p:nvSpPr>
          <p:cNvPr id="523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526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Line 4"/>
          <p:cNvSpPr/>
          <p:nvPr/>
        </p:nvSpPr>
        <p:spPr>
          <a:xfrm>
            <a:off x="56386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257480" y="1001520"/>
            <a:ext cx="75578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6ba"/>
                </a:solidFill>
                <a:latin typeface="Arial"/>
                <a:ea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7400" indent="-342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and amend some legal docum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7400" indent="-342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consistent preferential polic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7400" indent="-342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nces shall make the planning and develop their high-tech agricultural areas and zones based on existing Laws and bylaw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7400" indent="-342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opt provincial policies to encourage, attract investment in high-tech agricultur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7400" indent="-342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ialize investment in high-tech agricultural p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951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28680" y="-19080"/>
            <a:ext cx="1621080" cy="1920960"/>
          </a:xfrm>
          <a:prstGeom prst="rect">
            <a:avLst/>
          </a:prstGeom>
          <a:ln w="0">
            <a:noFill/>
          </a:ln>
        </p:spPr>
      </p:pic>
      <p:sp>
        <p:nvSpPr>
          <p:cNvPr id="535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0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538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4"/>
          <p:cNvSpPr/>
          <p:nvPr/>
        </p:nvSpPr>
        <p:spPr>
          <a:xfrm>
            <a:off x="56386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1040" y="6480"/>
            <a:ext cx="1622160" cy="1914480"/>
          </a:xfrm>
          <a:prstGeom prst="rect">
            <a:avLst/>
          </a:prstGeom>
          <a:ln w="0">
            <a:noFill/>
          </a:ln>
        </p:spPr>
      </p:pic>
      <p:pic>
        <p:nvPicPr>
          <p:cNvPr id="546" name="Rectangle 1" descr=""/>
          <p:cNvPicPr/>
          <p:nvPr/>
        </p:nvPicPr>
        <p:blipFill>
          <a:blip r:embed="rId2"/>
          <a:stretch/>
        </p:blipFill>
        <p:spPr>
          <a:xfrm>
            <a:off x="1407960" y="1925640"/>
            <a:ext cx="7126560" cy="927000"/>
          </a:xfrm>
          <a:prstGeom prst="rect">
            <a:avLst/>
          </a:prstGeom>
          <a:ln w="0">
            <a:noFill/>
          </a:ln>
        </p:spPr>
      </p:pic>
      <p:grpSp>
        <p:nvGrpSpPr>
          <p:cNvPr id="547" name="Group 10"/>
          <p:cNvGrpSpPr/>
          <p:nvPr/>
        </p:nvGrpSpPr>
        <p:grpSpPr>
          <a:xfrm>
            <a:off x="-4680" y="5502240"/>
            <a:ext cx="9161280" cy="1368360"/>
            <a:chOff x="-4680" y="5502240"/>
            <a:chExt cx="9161280" cy="1368360"/>
          </a:xfrm>
        </p:grpSpPr>
        <p:pic>
          <p:nvPicPr>
            <p:cNvPr id="548" name="Picture 4" descr="http://giatour.vn/wp-content/uploads/2013/07/da-lat-11.jpg"/>
            <p:cNvPicPr/>
            <p:nvPr/>
          </p:nvPicPr>
          <p:blipFill>
            <a:blip r:embed="rId3"/>
            <a:stretch/>
          </p:blipFill>
          <p:spPr>
            <a:xfrm>
              <a:off x="-4680" y="5502240"/>
              <a:ext cx="147132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2" descr="DSC05336"/>
            <p:cNvPicPr/>
            <p:nvPr/>
          </p:nvPicPr>
          <p:blipFill>
            <a:blip r:embed="rId4"/>
            <a:stretch/>
          </p:blipFill>
          <p:spPr>
            <a:xfrm>
              <a:off x="1466640" y="5502240"/>
              <a:ext cx="160272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図 5" descr=""/>
            <p:cNvPicPr/>
            <p:nvPr/>
          </p:nvPicPr>
          <p:blipFill>
            <a:blip r:embed="rId5"/>
            <a:stretch/>
          </p:blipFill>
          <p:spPr>
            <a:xfrm>
              <a:off x="3057480" y="5502240"/>
              <a:ext cx="156600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2" descr="DSC06006"/>
            <p:cNvPicPr/>
            <p:nvPr/>
          </p:nvPicPr>
          <p:blipFill>
            <a:blip r:embed="rId6"/>
            <a:stretch/>
          </p:blipFill>
          <p:spPr>
            <a:xfrm>
              <a:off x="4623480" y="5502240"/>
              <a:ext cx="160272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5" descr="DSCF1561"/>
            <p:cNvPicPr/>
            <p:nvPr/>
          </p:nvPicPr>
          <p:blipFill>
            <a:blip r:embed="rId7"/>
            <a:stretch/>
          </p:blipFill>
          <p:spPr>
            <a:xfrm>
              <a:off x="7743240" y="5502240"/>
              <a:ext cx="1413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2" descr="http://img.giaoducvietnam.vn/w500/Uploaded/tuanluc/2015_04_07/trangtrai4.jpg"/>
            <p:cNvPicPr/>
            <p:nvPr/>
          </p:nvPicPr>
          <p:blipFill>
            <a:blip r:embed="rId8"/>
            <a:stretch/>
          </p:blipFill>
          <p:spPr>
            <a:xfrm>
              <a:off x="6226560" y="5502240"/>
              <a:ext cx="1516680" cy="108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33280"/>
            <a:ext cx="749952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Arial"/>
                <a:ea typeface="Arial"/>
              </a:rPr>
              <a:t>CONTEN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600" y="10839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Improvement of policy frame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Program for high-tech agriculture develop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3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ormulation and development of a high-tech agricul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2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reation and development of high technologies applicable to agricul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2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igh-tech application in agricul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Line 4"/>
          <p:cNvSpPr/>
          <p:nvPr/>
        </p:nvSpPr>
        <p:spPr>
          <a:xfrm>
            <a:off x="1434960" y="1176480"/>
            <a:ext cx="723924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375" name="Picture 4" descr="http://giatour.vn/wp-content/uploads/2013/07/da-lat-11.jpg"/>
            <p:cNvPicPr/>
            <p:nvPr/>
          </p:nvPicPr>
          <p:blipFill>
            <a:blip r:embed="rId1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2" descr="DSC05336"/>
            <p:cNvPicPr/>
            <p:nvPr/>
          </p:nvPicPr>
          <p:blipFill>
            <a:blip r:embed="rId2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図 5" descr=""/>
            <p:cNvPicPr/>
            <p:nvPr/>
          </p:nvPicPr>
          <p:blipFill>
            <a:blip r:embed="rId3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" descr="DSC06006"/>
            <p:cNvPicPr/>
            <p:nvPr/>
          </p:nvPicPr>
          <p:blipFill>
            <a:blip r:embed="rId4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5" descr="DSCF1561"/>
            <p:cNvPicPr/>
            <p:nvPr/>
          </p:nvPicPr>
          <p:blipFill>
            <a:blip r:embed="rId5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" descr="http://img.giaoducvietnam.vn/w500/Uploaded/tuanluc/2015_04_07/trangtrai4.jpg"/>
            <p:cNvPicPr/>
            <p:nvPr/>
          </p:nvPicPr>
          <p:blipFill>
            <a:blip r:embed="rId6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Picture 2" descr="C:\Users\Administrator\Desktop\091101_LogoMARD.jpg"/>
          <p:cNvPicPr/>
          <p:nvPr/>
        </p:nvPicPr>
        <p:blipFill>
          <a:blip r:embed="rId7"/>
          <a:stretch/>
        </p:blipFill>
        <p:spPr>
          <a:xfrm>
            <a:off x="-328680" y="-19080"/>
            <a:ext cx="1621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101160"/>
            <a:ext cx="7499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2314"/>
                </a:solidFill>
                <a:latin typeface="Arial"/>
                <a:ea typeface="Arial"/>
              </a:rPr>
              <a:t>IMPROVEMENT OF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Arial"/>
                <a:ea typeface="Arial"/>
              </a:rPr>
              <a:t>LEGAL DOCUMENT SYSTEM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3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1040" y="-19080"/>
            <a:ext cx="162216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84" name="TextBox 4"/>
          <p:cNvGrpSpPr/>
          <p:nvPr/>
        </p:nvGrpSpPr>
        <p:grpSpPr>
          <a:xfrm>
            <a:off x="3687840" y="1079640"/>
            <a:ext cx="5230800" cy="772920"/>
            <a:chOff x="3687840" y="1079640"/>
            <a:chExt cx="5230800" cy="772920"/>
          </a:xfrm>
        </p:grpSpPr>
        <p:pic>
          <p:nvPicPr>
            <p:cNvPr id="385" name="TextBox 4" descr=""/>
            <p:cNvPicPr/>
            <p:nvPr/>
          </p:nvPicPr>
          <p:blipFill>
            <a:blip r:embed="rId2"/>
            <a:stretch/>
          </p:blipFill>
          <p:spPr>
            <a:xfrm>
              <a:off x="3687840" y="1079640"/>
              <a:ext cx="5230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846600" y="1162080"/>
              <a:ext cx="491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igh-tech Law No. 21/2008/QH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TextBox 5" descr=""/>
          <p:cNvPicPr/>
          <p:nvPr/>
        </p:nvPicPr>
        <p:blipFill>
          <a:blip r:embed="rId3"/>
          <a:stretch/>
        </p:blipFill>
        <p:spPr>
          <a:xfrm>
            <a:off x="5430960" y="3895560"/>
            <a:ext cx="3444840" cy="1000440"/>
          </a:xfrm>
          <a:prstGeom prst="rect">
            <a:avLst/>
          </a:prstGeom>
          <a:ln w="0">
            <a:noFill/>
          </a:ln>
        </p:spPr>
      </p:pic>
      <p:pic>
        <p:nvPicPr>
          <p:cNvPr id="388" name="TextBox 7" descr=""/>
          <p:cNvPicPr/>
          <p:nvPr/>
        </p:nvPicPr>
        <p:blipFill>
          <a:blip r:embed="rId4"/>
          <a:stretch/>
        </p:blipFill>
        <p:spPr>
          <a:xfrm>
            <a:off x="5394240" y="1798560"/>
            <a:ext cx="3444840" cy="993960"/>
          </a:xfrm>
          <a:prstGeom prst="rect">
            <a:avLst/>
          </a:prstGeom>
          <a:ln w="0">
            <a:noFill/>
          </a:ln>
        </p:spPr>
      </p:pic>
      <p:pic>
        <p:nvPicPr>
          <p:cNvPr id="389" name="TextBox 8" descr=""/>
          <p:cNvPicPr/>
          <p:nvPr/>
        </p:nvPicPr>
        <p:blipFill>
          <a:blip r:embed="rId5"/>
          <a:stretch/>
        </p:blipFill>
        <p:spPr>
          <a:xfrm>
            <a:off x="5456160" y="4889520"/>
            <a:ext cx="3382920" cy="99360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9" descr=""/>
          <p:cNvPicPr/>
          <p:nvPr/>
        </p:nvPicPr>
        <p:blipFill>
          <a:blip r:embed="rId6"/>
          <a:stretch/>
        </p:blipFill>
        <p:spPr>
          <a:xfrm>
            <a:off x="5443560" y="5870520"/>
            <a:ext cx="3395520" cy="1120680"/>
          </a:xfrm>
          <a:prstGeom prst="rect">
            <a:avLst/>
          </a:prstGeom>
          <a:ln w="0">
            <a:noFill/>
          </a:ln>
        </p:spPr>
      </p:pic>
      <p:sp>
        <p:nvSpPr>
          <p:cNvPr id="391" name="Line 4"/>
          <p:cNvSpPr/>
          <p:nvPr/>
        </p:nvSpPr>
        <p:spPr>
          <a:xfrm>
            <a:off x="1352520" y="94284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TextBox 7" descr=""/>
          <p:cNvPicPr/>
          <p:nvPr/>
        </p:nvPicPr>
        <p:blipFill>
          <a:blip r:embed="rId7"/>
          <a:stretch/>
        </p:blipFill>
        <p:spPr>
          <a:xfrm>
            <a:off x="5370480" y="2706840"/>
            <a:ext cx="3511440" cy="1358640"/>
          </a:xfrm>
          <a:prstGeom prst="rect">
            <a:avLst/>
          </a:prstGeom>
          <a:ln w="0">
            <a:noFill/>
          </a:ln>
        </p:spPr>
      </p:pic>
      <p:pic>
        <p:nvPicPr>
          <p:cNvPr id="393" name="Down Arrow 4" descr=""/>
          <p:cNvPicPr/>
          <p:nvPr/>
        </p:nvPicPr>
        <p:blipFill>
          <a:blip r:embed="rId8"/>
          <a:stretch/>
        </p:blipFill>
        <p:spPr>
          <a:xfrm>
            <a:off x="6224760" y="1560600"/>
            <a:ext cx="377640" cy="420480"/>
          </a:xfrm>
          <a:prstGeom prst="rect">
            <a:avLst/>
          </a:prstGeom>
          <a:ln w="0">
            <a:noFill/>
          </a:ln>
        </p:spPr>
      </p:pic>
      <p:pic>
        <p:nvPicPr>
          <p:cNvPr id="394" name="Down Arrow 13" descr=""/>
          <p:cNvPicPr/>
          <p:nvPr/>
        </p:nvPicPr>
        <p:blipFill>
          <a:blip r:embed="rId9"/>
          <a:stretch/>
        </p:blipFill>
        <p:spPr>
          <a:xfrm>
            <a:off x="7029360" y="3608280"/>
            <a:ext cx="378000" cy="476280"/>
          </a:xfrm>
          <a:prstGeom prst="rect">
            <a:avLst/>
          </a:prstGeom>
          <a:ln w="0">
            <a:noFill/>
          </a:ln>
        </p:spPr>
      </p:pic>
      <p:pic>
        <p:nvPicPr>
          <p:cNvPr id="395" name="Down Arrow 14" descr=""/>
          <p:cNvPicPr/>
          <p:nvPr/>
        </p:nvPicPr>
        <p:blipFill>
          <a:blip r:embed="rId10"/>
          <a:stretch/>
        </p:blipFill>
        <p:spPr>
          <a:xfrm>
            <a:off x="6534000" y="2341440"/>
            <a:ext cx="543240" cy="650880"/>
          </a:xfrm>
          <a:prstGeom prst="rect">
            <a:avLst/>
          </a:prstGeom>
          <a:ln w="0">
            <a:noFill/>
          </a:ln>
        </p:spPr>
      </p:pic>
      <p:pic>
        <p:nvPicPr>
          <p:cNvPr id="396" name="Down Arrow 16" descr=""/>
          <p:cNvPicPr/>
          <p:nvPr/>
        </p:nvPicPr>
        <p:blipFill>
          <a:blip r:embed="rId11"/>
          <a:stretch/>
        </p:blipFill>
        <p:spPr>
          <a:xfrm>
            <a:off x="7375680" y="4559400"/>
            <a:ext cx="377640" cy="476280"/>
          </a:xfrm>
          <a:prstGeom prst="rect">
            <a:avLst/>
          </a:prstGeom>
          <a:ln w="0">
            <a:noFill/>
          </a:ln>
        </p:spPr>
      </p:pic>
      <p:pic>
        <p:nvPicPr>
          <p:cNvPr id="397" name="Down Arrow 17" descr=""/>
          <p:cNvPicPr/>
          <p:nvPr/>
        </p:nvPicPr>
        <p:blipFill>
          <a:blip r:embed="rId12"/>
          <a:stretch/>
        </p:blipFill>
        <p:spPr>
          <a:xfrm>
            <a:off x="7821720" y="5553000"/>
            <a:ext cx="377640" cy="476280"/>
          </a:xfrm>
          <a:prstGeom prst="rect">
            <a:avLst/>
          </a:prstGeom>
          <a:ln w="0">
            <a:noFill/>
          </a:ln>
        </p:spPr>
      </p:pic>
      <p:grpSp>
        <p:nvGrpSpPr>
          <p:cNvPr id="398" name="TextBox 7"/>
          <p:cNvGrpSpPr/>
          <p:nvPr/>
        </p:nvGrpSpPr>
        <p:grpSpPr>
          <a:xfrm>
            <a:off x="1359000" y="1805040"/>
            <a:ext cx="3414600" cy="1303200"/>
            <a:chOff x="1359000" y="1805040"/>
            <a:chExt cx="3414600" cy="1303200"/>
          </a:xfrm>
        </p:grpSpPr>
        <p:pic>
          <p:nvPicPr>
            <p:cNvPr id="399" name="TextBox 7" descr=""/>
            <p:cNvPicPr/>
            <p:nvPr/>
          </p:nvPicPr>
          <p:blipFill>
            <a:blip r:embed="rId13"/>
            <a:stretch/>
          </p:blipFill>
          <p:spPr>
            <a:xfrm>
              <a:off x="1359000" y="1805040"/>
              <a:ext cx="341460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434960" y="1878120"/>
              <a:ext cx="3267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cision 66/2014/QĐ-TT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List of high technologies prioritized for investment and development and list of high-tech products eligible for development promo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TextBox 7"/>
          <p:cNvGrpSpPr/>
          <p:nvPr/>
        </p:nvGrpSpPr>
        <p:grpSpPr>
          <a:xfrm>
            <a:off x="1359000" y="2840040"/>
            <a:ext cx="3414600" cy="1335240"/>
            <a:chOff x="1359000" y="2840040"/>
            <a:chExt cx="3414600" cy="1335240"/>
          </a:xfrm>
        </p:grpSpPr>
        <p:pic>
          <p:nvPicPr>
            <p:cNvPr id="402" name="TextBox 7" descr=""/>
            <p:cNvPicPr/>
            <p:nvPr/>
          </p:nvPicPr>
          <p:blipFill>
            <a:blip r:embed="rId14"/>
            <a:stretch/>
          </p:blipFill>
          <p:spPr>
            <a:xfrm>
              <a:off x="1359000" y="2840040"/>
              <a:ext cx="34146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434960" y="2911320"/>
              <a:ext cx="3267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cree 55/2015/NĐ-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The Credit Policy for Agricultural and Rural 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1600" spc="-1" strike="noStrike">
                  <a:solidFill>
                    <a:srgbClr val="2806ba"/>
                  </a:solidFill>
                  <a:latin typeface="Arial"/>
                  <a:ea typeface="Arial"/>
                </a:rPr>
                <a:t>Circular No.10/2015/TT- NHN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TextBox 7"/>
          <p:cNvGrpSpPr/>
          <p:nvPr/>
        </p:nvGrpSpPr>
        <p:grpSpPr>
          <a:xfrm>
            <a:off x="1359000" y="4632480"/>
            <a:ext cx="3457440" cy="1487160"/>
            <a:chOff x="1359000" y="4632480"/>
            <a:chExt cx="3457440" cy="1487160"/>
          </a:xfrm>
        </p:grpSpPr>
        <p:pic>
          <p:nvPicPr>
            <p:cNvPr id="405" name="TextBox 7" descr=""/>
            <p:cNvPicPr/>
            <p:nvPr/>
          </p:nvPicPr>
          <p:blipFill>
            <a:blip r:embed="rId15"/>
            <a:stretch/>
          </p:blipFill>
          <p:spPr>
            <a:xfrm>
              <a:off x="1359000" y="4632480"/>
              <a:ext cx="3457440" cy="14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434960" y="4705200"/>
              <a:ext cx="326736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cree 43/2014/NĐ-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Decision guiding the implementation of some Articles of Land 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Circular No. 24/2014/TT-BTN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Decision on Cadastral Dossi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TextBox 7"/>
          <p:cNvGrpSpPr/>
          <p:nvPr/>
        </p:nvGrpSpPr>
        <p:grpSpPr>
          <a:xfrm>
            <a:off x="1335240" y="4022640"/>
            <a:ext cx="3462120" cy="628560"/>
            <a:chOff x="1335240" y="4022640"/>
            <a:chExt cx="3462120" cy="628560"/>
          </a:xfrm>
        </p:grpSpPr>
        <p:pic>
          <p:nvPicPr>
            <p:cNvPr id="408" name="TextBox 7" descr=""/>
            <p:cNvPicPr/>
            <p:nvPr/>
          </p:nvPicPr>
          <p:blipFill>
            <a:blip r:embed="rId16"/>
            <a:stretch/>
          </p:blipFill>
          <p:spPr>
            <a:xfrm>
              <a:off x="1335240" y="4022640"/>
              <a:ext cx="34621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434960" y="4095720"/>
              <a:ext cx="32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nd Law No. 45/2013/QH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TextBox 7"/>
          <p:cNvGrpSpPr/>
          <p:nvPr/>
        </p:nvGrpSpPr>
        <p:grpSpPr>
          <a:xfrm>
            <a:off x="1335240" y="6072120"/>
            <a:ext cx="3462120" cy="620640"/>
            <a:chOff x="1335240" y="6072120"/>
            <a:chExt cx="3462120" cy="620640"/>
          </a:xfrm>
        </p:grpSpPr>
        <p:pic>
          <p:nvPicPr>
            <p:cNvPr id="411" name="TextBox 7" descr=""/>
            <p:cNvPicPr/>
            <p:nvPr/>
          </p:nvPicPr>
          <p:blipFill>
            <a:blip r:embed="rId17"/>
            <a:stretch/>
          </p:blipFill>
          <p:spPr>
            <a:xfrm>
              <a:off x="1335240" y="6072120"/>
              <a:ext cx="34621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1434960" y="6140520"/>
              <a:ext cx="32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nd Law No. 67/2014/QH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Down Arrow 25"/>
          <p:cNvGrpSpPr/>
          <p:nvPr/>
        </p:nvGrpSpPr>
        <p:grpSpPr>
          <a:xfrm>
            <a:off x="1749600" y="3743280"/>
            <a:ext cx="353880" cy="444600"/>
            <a:chOff x="1749600" y="3743280"/>
            <a:chExt cx="353880" cy="444600"/>
          </a:xfrm>
        </p:grpSpPr>
        <p:pic>
          <p:nvPicPr>
            <p:cNvPr id="414" name="Down Arrow 25" descr=""/>
            <p:cNvPicPr/>
            <p:nvPr/>
          </p:nvPicPr>
          <p:blipFill>
            <a:blip r:embed="rId18"/>
            <a:stretch/>
          </p:blipFill>
          <p:spPr>
            <a:xfrm>
              <a:off x="1749600" y="3743280"/>
              <a:ext cx="3538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1874880" y="3789360"/>
              <a:ext cx="982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Left Brace 5"/>
          <p:cNvSpPr/>
          <p:nvPr/>
        </p:nvSpPr>
        <p:spPr>
          <a:xfrm>
            <a:off x="5191200" y="2084400"/>
            <a:ext cx="196920" cy="4265640"/>
          </a:xfrm>
          <a:custGeom>
            <a:avLst/>
            <a:gdLst>
              <a:gd name="textAreaLeft" fmla="*/ 126000 w 196920"/>
              <a:gd name="textAreaRight" fmla="*/ 197280 w 196920"/>
              <a:gd name="textAreaTop" fmla="*/ 5040 h 4265640"/>
              <a:gd name="textAreaBottom" fmla="*/ 4260600 h 426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"/>
                  <a:pt x="10800" y="83"/>
                </a:cubicBezTo>
                <a:lnTo>
                  <a:pt x="10800" y="10717"/>
                </a:lnTo>
                <a:cubicBezTo>
                  <a:pt x="10800" y="10759"/>
                  <a:pt x="5400" y="10800"/>
                  <a:pt x="0" y="10800"/>
                </a:cubicBezTo>
                <a:cubicBezTo>
                  <a:pt x="5400" y="10800"/>
                  <a:pt x="10800" y="10842"/>
                  <a:pt x="10800" y="10883"/>
                </a:cubicBezTo>
                <a:lnTo>
                  <a:pt x="10800" y="21517"/>
                </a:lnTo>
                <a:cubicBezTo>
                  <a:pt x="10800" y="2155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891a7"/>
            </a:solidFill>
            <a:miter/>
          </a:ln>
          <a:effectLst>
            <a:outerShdw dist="1260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Striped Right Arrow 6" descr=""/>
          <p:cNvPicPr/>
          <p:nvPr/>
        </p:nvPicPr>
        <p:blipFill>
          <a:blip r:embed="rId19"/>
          <a:stretch/>
        </p:blipFill>
        <p:spPr>
          <a:xfrm>
            <a:off x="4718160" y="2163600"/>
            <a:ext cx="555480" cy="298440"/>
          </a:xfrm>
          <a:prstGeom prst="rect">
            <a:avLst/>
          </a:prstGeom>
          <a:ln w="0">
            <a:noFill/>
          </a:ln>
        </p:spPr>
      </p:pic>
      <p:pic>
        <p:nvPicPr>
          <p:cNvPr id="418" name="Striped Right Arrow 7" descr=""/>
          <p:cNvPicPr/>
          <p:nvPr/>
        </p:nvPicPr>
        <p:blipFill>
          <a:blip r:embed="rId20"/>
          <a:stretch/>
        </p:blipFill>
        <p:spPr>
          <a:xfrm>
            <a:off x="4711680" y="3213000"/>
            <a:ext cx="566640" cy="322200"/>
          </a:xfrm>
          <a:prstGeom prst="rect">
            <a:avLst/>
          </a:prstGeom>
          <a:ln w="0">
            <a:noFill/>
          </a:ln>
        </p:spPr>
      </p:pic>
      <p:pic>
        <p:nvPicPr>
          <p:cNvPr id="419" name="Striped Right Arrow 31" descr=""/>
          <p:cNvPicPr/>
          <p:nvPr/>
        </p:nvPicPr>
        <p:blipFill>
          <a:blip r:embed="rId21"/>
          <a:stretch/>
        </p:blipFill>
        <p:spPr>
          <a:xfrm>
            <a:off x="4711680" y="4041720"/>
            <a:ext cx="566640" cy="322200"/>
          </a:xfrm>
          <a:prstGeom prst="rect">
            <a:avLst/>
          </a:prstGeom>
          <a:ln w="0">
            <a:noFill/>
          </a:ln>
        </p:spPr>
      </p:pic>
      <p:pic>
        <p:nvPicPr>
          <p:cNvPr id="420" name="Striped Right Arrow 32" descr=""/>
          <p:cNvPicPr/>
          <p:nvPr/>
        </p:nvPicPr>
        <p:blipFill>
          <a:blip r:embed="rId22"/>
          <a:stretch/>
        </p:blipFill>
        <p:spPr>
          <a:xfrm>
            <a:off x="4711680" y="5084640"/>
            <a:ext cx="566640" cy="322560"/>
          </a:xfrm>
          <a:prstGeom prst="rect">
            <a:avLst/>
          </a:prstGeom>
          <a:ln w="0">
            <a:noFill/>
          </a:ln>
        </p:spPr>
      </p:pic>
      <p:pic>
        <p:nvPicPr>
          <p:cNvPr id="421" name="Striped Right Arrow 33" descr=""/>
          <p:cNvPicPr/>
          <p:nvPr/>
        </p:nvPicPr>
        <p:blipFill>
          <a:blip r:embed="rId23"/>
          <a:stretch/>
        </p:blipFill>
        <p:spPr>
          <a:xfrm>
            <a:off x="4711680" y="6181560"/>
            <a:ext cx="56664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1040" y="-30240"/>
            <a:ext cx="1622160" cy="19144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4"/>
          <p:cNvSpPr/>
          <p:nvPr/>
        </p:nvSpPr>
        <p:spPr>
          <a:xfrm>
            <a:off x="1008000" y="2635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11617"/>
                </a:solidFill>
                <a:latin typeface="Arial"/>
                <a:ea typeface="Arial"/>
              </a:rPr>
              <a:t>PROGRAM FOR HIGH-TECH AGRICULTUR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1008000" y="10368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Criteria for establishing high-tech agriculture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338120" y="1557360"/>
            <a:ext cx="746460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13204"/>
                </a:solidFill>
                <a:latin typeface="Arial"/>
              </a:rPr>
              <a:t>This zone shall be under the master planning and shall comply with both the Article 32 of the High-tech Law and the following regu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The high-tech agricultural zone consists of major functional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dministrative center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rea of applied research, experiment and demonstration of high-tech agricultural production mode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rea of training, transfer of technology, demonstration and introduction of high-tech agricultural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rea of Investment in high-tech agricultural produ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rea of Waste Trea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2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428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1040" y="-30240"/>
            <a:ext cx="1622160" cy="191448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4"/>
          <p:cNvSpPr/>
          <p:nvPr/>
        </p:nvSpPr>
        <p:spPr>
          <a:xfrm>
            <a:off x="1008000" y="2635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11617"/>
                </a:solidFill>
                <a:latin typeface="Arial"/>
                <a:ea typeface="Arial"/>
              </a:rPr>
              <a:t>PROGRAM FOR HIGH-TECH AGRICULTUR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1338120" y="1146240"/>
            <a:ext cx="72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Establishing high-tech agriculture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1338120" y="1816200"/>
            <a:ext cx="7404120" cy="34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Activities of the high-tech agriculture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and technological activities: R&amp;D; experiment, demonstration, transfer of high technology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tech human resource development: workers, technicians, managers etc.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, services Hoạt động sản xuất, dịch vụ: high-tech agricultural products; trade fairs; demonstration of products, advice etc.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in high-tech agricultural incubation, high-tech agricultural incuba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2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440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28680" y="-30240"/>
            <a:ext cx="1621080" cy="19144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/>
          <p:cNvSpPr/>
          <p:nvPr/>
        </p:nvSpPr>
        <p:spPr>
          <a:xfrm>
            <a:off x="1008000" y="2635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11617"/>
                </a:solidFill>
                <a:latin typeface="Arial"/>
                <a:ea typeface="Arial"/>
              </a:rPr>
              <a:t>PROGRAM FOR HIGH-TECH AGRICULTUR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1338120" y="1028880"/>
            <a:ext cx="43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Preferential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1338120" y="1530360"/>
            <a:ext cx="7404120" cy="48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) Land preferential: receive the highest preferential as regulated by laws on land other legal documents related to land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b) Receive investment subsidies for  establishing high-tech agriculture areas and zones under the master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established as regulated by the PM’s Decision: Based on specific conditions, the State Budget shall provide subsidy of no more than 70% (information infrastructure, power, water, administrative building, waste treatment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tech agriculture region: regional infrastructure (transprort system, irrigation system and waste treatment) under the approve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eferential policies as regulated by the Government within their compe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policies of cities, provi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2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452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28680" y="-30240"/>
            <a:ext cx="1621080" cy="1914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http://giatour.vn/wp-content/uploads/2013/07/da-lat-11.jpg"/>
          <p:cNvPicPr/>
          <p:nvPr/>
        </p:nvPicPr>
        <p:blipFill>
          <a:blip r:embed="rId2"/>
          <a:stretch/>
        </p:blipFill>
        <p:spPr>
          <a:xfrm>
            <a:off x="-4680" y="6269040"/>
            <a:ext cx="1471680" cy="601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DSC05336"/>
          <p:cNvPicPr/>
          <p:nvPr/>
        </p:nvPicPr>
        <p:blipFill>
          <a:blip r:embed="rId3"/>
          <a:stretch/>
        </p:blipFill>
        <p:spPr>
          <a:xfrm>
            <a:off x="1467000" y="6269040"/>
            <a:ext cx="1603080" cy="601560"/>
          </a:xfrm>
          <a:prstGeom prst="rect">
            <a:avLst/>
          </a:prstGeom>
          <a:ln w="0">
            <a:noFill/>
          </a:ln>
        </p:spPr>
      </p:pic>
      <p:pic>
        <p:nvPicPr>
          <p:cNvPr id="461" name="図 5" descr=""/>
          <p:cNvPicPr/>
          <p:nvPr/>
        </p:nvPicPr>
        <p:blipFill>
          <a:blip r:embed="rId4"/>
          <a:stretch/>
        </p:blipFill>
        <p:spPr>
          <a:xfrm>
            <a:off x="3057480" y="6269040"/>
            <a:ext cx="1567080" cy="601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DSC06006"/>
          <p:cNvPicPr/>
          <p:nvPr/>
        </p:nvPicPr>
        <p:blipFill>
          <a:blip r:embed="rId5"/>
          <a:stretch/>
        </p:blipFill>
        <p:spPr>
          <a:xfrm>
            <a:off x="4624560" y="6269040"/>
            <a:ext cx="1601640" cy="6015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DSCF1561"/>
          <p:cNvPicPr/>
          <p:nvPr/>
        </p:nvPicPr>
        <p:blipFill>
          <a:blip r:embed="rId6"/>
          <a:stretch/>
        </p:blipFill>
        <p:spPr>
          <a:xfrm>
            <a:off x="7743960" y="6269040"/>
            <a:ext cx="1412640" cy="6015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4"/>
          <p:cNvSpPr/>
          <p:nvPr/>
        </p:nvSpPr>
        <p:spPr>
          <a:xfrm>
            <a:off x="1008000" y="2635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11617"/>
                </a:solidFill>
                <a:latin typeface="Arial"/>
                <a:ea typeface="Arial"/>
              </a:rPr>
              <a:t>PROGRAM FOR HIGH-TECH AGRICULTUR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1338120" y="1036800"/>
            <a:ext cx="72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Establishing high-tech agricultur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1979640" y="1557360"/>
            <a:ext cx="67993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Planning for high-tech agriculture areas by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Hậu Gia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high-tech agricultural area</a:t>
            </a: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cision</a:t>
            </a: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. </a:t>
            </a: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1152/Q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-TTg;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Phú Yê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igh-tech agricultural area </a:t>
            </a: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cision</a:t>
            </a: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 2293/QĐ-TTg;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6600"/>
                </a:solidFill>
                <a:latin typeface="Arial"/>
              </a:rPr>
              <a:t>Thái Nguyên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igh-tech agricultur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6600"/>
                </a:solidFill>
                <a:latin typeface="Arial"/>
              </a:rPr>
              <a:t>Thanh Hóa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igh-tech agricultur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6600"/>
                </a:solidFill>
                <a:latin typeface="Arial"/>
              </a:rPr>
              <a:t>Lâm Đồng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igh-tech agricultur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uảng Nin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tech agricultur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Khánh Hò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tech agricultur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Hồ Chí Min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tech agricultur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ình Dươ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-tech agricultur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ần Thơ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-tech agricultur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http://img.giaoducvietnam.vn/w500/Uploaded/tuanluc/2015_04_07/trangtrai4.jpg"/>
          <p:cNvPicPr/>
          <p:nvPr/>
        </p:nvPicPr>
        <p:blipFill>
          <a:blip r:embed="rId7"/>
          <a:stretch/>
        </p:blipFill>
        <p:spPr>
          <a:xfrm>
            <a:off x="6226200" y="6269040"/>
            <a:ext cx="15177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28680" y="-30240"/>
            <a:ext cx="1621080" cy="19144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4"/>
          <p:cNvSpPr/>
          <p:nvPr/>
        </p:nvSpPr>
        <p:spPr>
          <a:xfrm>
            <a:off x="1008000" y="2635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11617"/>
                </a:solidFill>
                <a:latin typeface="Arial"/>
                <a:ea typeface="Arial"/>
              </a:rPr>
              <a:t>PROGRAM FOR HIGH-TECH AGRICULTUR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157400" y="1195560"/>
            <a:ext cx="77007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457200" algn="just">
              <a:lnSpc>
                <a:spcPct val="118000"/>
              </a:lnSpc>
              <a:buClr>
                <a:srgbClr val="2806ba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2806ba"/>
                </a:solidFill>
                <a:latin typeface="Arial"/>
                <a:ea typeface="Arial"/>
              </a:rPr>
              <a:t>Developing high-tech agricultural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"/>
          <p:cNvSpPr/>
          <p:nvPr/>
        </p:nvSpPr>
        <p:spPr>
          <a:xfrm>
            <a:off x="1467000" y="1924200"/>
            <a:ext cx="71244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indent="-285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Focusing on products: vegetables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flowers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coffee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tea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dragon fruits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cows for milk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cows for meat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poultry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shrimp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 (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salty, brackish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water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).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In reality, there have been concentrated production models with high-tech appl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Production of certified vegetables, pork, chickens with value added (dragon fruits, vegetables, pork, chicken, shrimp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Production of certified tea, coffee, pepper (Utz, Rainforest, 4C, GlobalGAP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36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Due to a newly-established legal framework, not any high-tech agricultural zones have been recognized so far</a:t>
            </a:r>
            <a:r>
              <a:rPr b="0" lang="sv-SE" sz="1800" spc="-1" strike="noStrike">
                <a:solidFill>
                  <a:srgbClr val="2806ba"/>
                </a:solidFill>
                <a:latin typeface="Arial"/>
                <a:ea typeface="Arial"/>
              </a:rPr>
              <a:t>.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36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18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475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1040" y="-30240"/>
            <a:ext cx="1622160" cy="191448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4"/>
          <p:cNvSpPr/>
          <p:nvPr/>
        </p:nvSpPr>
        <p:spPr>
          <a:xfrm>
            <a:off x="1008000" y="2635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11617"/>
                </a:solidFill>
                <a:latin typeface="Arial"/>
                <a:ea typeface="Arial"/>
              </a:rPr>
              <a:t>PROGRAM FOR HIGH-TECH AGRICULTUR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228680" y="1028880"/>
            <a:ext cx="79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Agricultural enterprises with high-tech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1460520" y="1811160"/>
            <a:ext cx="708336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ut of the total 25 certified agricultural enterprises with high-tech application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09 enterprises involving in crop production (vegetables, flowers, tea processin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08 enterprises with high-tech application to their animal husbandry (dairy cows, pigs, chicken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08 enterprises with the high-tech application to their aquacul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 of this ,09 enterprises are running their business in Lam D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12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487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1T07:25:34Z</dcterms:created>
  <dc:creator>NC D</dc:creator>
  <dc:description/>
  <dc:language>en-US</dc:language>
  <cp:lastModifiedBy>user</cp:lastModifiedBy>
  <dcterms:modified xsi:type="dcterms:W3CDTF">2018-03-05T03:19:35Z</dcterms:modified>
  <cp:revision>285</cp:revision>
  <dc:subject/>
  <dc:title>Developing regulations in developing countries in South East Asia</dc:title>
</cp:coreProperties>
</file>